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95C1-C0A4-43B6-AA81-ED6EC2819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6D46-1101-4C7A-9A35-7A0516BE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4AB2-0FCE-49B9-952E-D22051376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D426-5BFE-465D-954D-4F3631DB4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2006-E36F-45A3-8CBC-4D248035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3E9E-5740-4F70-89C5-B9DA28E0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4279-4CF1-4C11-A19D-BD536DA2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CD4C-8839-466C-A816-03400910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8F18-69CA-4128-AF84-69FEFECC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3E0A-4599-45C9-8551-A96CA735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2698-1090-4E1D-A4CA-7A02BF25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EF02-676A-483D-B245-FE705A95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655E-FABE-4A22-BD70-E8A7C5E9D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981080"/>
            <a:ext cx="83822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2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perties of Quadratic Fun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219320" y="685800"/>
            <a:ext cx="6095880" cy="900000"/>
            <a:chOff x="1219320" y="685800"/>
            <a:chExt cx="6095880" cy="90000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1219320" y="685800"/>
              <a:ext cx="609588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1281240" y="1143000"/>
              <a:ext cx="5715000" cy="44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"/>
          <p:cNvSpPr/>
          <p:nvPr/>
        </p:nvSpPr>
        <p:spPr>
          <a:xfrm>
            <a:off x="304920" y="380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16002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graphing, locate the vertex and axis of symmetry of the parabola defined by                               .  Does it open up or dow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581280" y="1981080"/>
          <a:ext cx="223704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1981080"/>
                    <a:ext cx="22370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304920" y="1873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321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01600" y="2933640"/>
          <a:ext cx="7508880" cy="125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1600" y="2933640"/>
                    <a:ext cx="750888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" name=""/>
          <p:cNvGrpSpPr/>
          <p:nvPr/>
        </p:nvGrpSpPr>
        <p:grpSpPr>
          <a:xfrm>
            <a:off x="1066680" y="4724280"/>
            <a:ext cx="7696080" cy="1184400"/>
            <a:chOff x="1066680" y="4724280"/>
            <a:chExt cx="7696080" cy="1184400"/>
          </a:xfrm>
        </p:grpSpPr>
        <p:pic>
          <p:nvPicPr>
            <p:cNvPr id="54" name="" descr=""/>
            <p:cNvPicPr/>
            <p:nvPr/>
          </p:nvPicPr>
          <p:blipFill>
            <a:blip r:embed="rId7"/>
            <a:srcRect l="0" t="0" r="27966" b="43417"/>
            <a:stretch/>
          </p:blipFill>
          <p:spPr>
            <a:xfrm>
              <a:off x="1066680" y="4724280"/>
              <a:ext cx="7696080" cy="45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" name=""/>
            <p:cNvGrpSpPr/>
            <p:nvPr/>
          </p:nvGrpSpPr>
          <p:grpSpPr>
            <a:xfrm>
              <a:off x="1066680" y="5178240"/>
              <a:ext cx="4210200" cy="730440"/>
              <a:chOff x="1066680" y="5178240"/>
              <a:chExt cx="4210200" cy="730440"/>
            </a:xfrm>
          </p:grpSpPr>
          <p:pic>
            <p:nvPicPr>
              <p:cNvPr id="56" name="" descr=""/>
              <p:cNvPicPr/>
              <p:nvPr/>
            </p:nvPicPr>
            <p:blipFill>
              <a:blip r:embed="rId8"/>
              <a:srcRect l="71430" t="0" r="0" b="10874"/>
              <a:stretch/>
            </p:blipFill>
            <p:spPr>
              <a:xfrm>
                <a:off x="1066680" y="5178240"/>
                <a:ext cx="3124080" cy="73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" descr=""/>
              <p:cNvPicPr/>
              <p:nvPr/>
            </p:nvPicPr>
            <p:blipFill>
              <a:blip r:embed="rId9"/>
              <a:srcRect l="0" t="58136" r="89567" b="-4583"/>
              <a:stretch/>
            </p:blipFill>
            <p:spPr>
              <a:xfrm>
                <a:off x="4133880" y="5286240"/>
                <a:ext cx="1143000" cy="380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8" name=""/>
          <p:cNvSpPr/>
          <p:nvPr/>
        </p:nvSpPr>
        <p:spPr>
          <a:xfrm>
            <a:off x="304920" y="5378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4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40384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d) Find the maximum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1:58:52Z</dcterms:created>
  <dc:creator>Harry S. Mills</dc:creator>
  <dc:description/>
  <dc:language>en-US</dc:language>
  <cp:lastModifiedBy>Harry S. Mills</cp:lastModifiedBy>
  <dcterms:modified xsi:type="dcterms:W3CDTF">2008-01-21T02:54:59Z</dcterms:modified>
  <cp:revision>8</cp:revision>
  <dc:subject/>
  <dc:title>Slide 1</dc:title>
</cp:coreProperties>
</file>